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77724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10960"/>
            <a:ext cx="77724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90144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1096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1096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250236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901440"/>
            <a:ext cx="250236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901440"/>
            <a:ext cx="250236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10960"/>
            <a:ext cx="250236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10960"/>
            <a:ext cx="250236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10960"/>
            <a:ext cx="250236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901440"/>
            <a:ext cx="7772400" cy="55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777240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379260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901440"/>
            <a:ext cx="379260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6800" y="104760"/>
            <a:ext cx="702000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901440"/>
            <a:ext cx="379260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1096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379260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90144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1096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90144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10960"/>
            <a:ext cx="77724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877160" y="6586560"/>
            <a:ext cx="1266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ge </a:t>
            </a:r>
            <a:fld id="{21DC32D2-D42C-4171-BA3D-2B13845F7C82}" type="slidenum">
              <a:rPr b="1" lang="en-US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901440"/>
            <a:ext cx="777240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7800" indent="-307800"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57040">
              <a:spcBef>
                <a:spcPts val="451"/>
              </a:spcBef>
              <a:buClr>
                <a:srgbClr val="009999"/>
              </a:buClr>
              <a:buFont typeface="Arial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5640" indent="-204840"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36760" indent="-206280">
              <a:spcBef>
                <a:spcPts val="451"/>
              </a:spcBef>
              <a:buClr>
                <a:srgbClr val="009999"/>
              </a:buClr>
              <a:buFont typeface="Arial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46440" indent="-204840">
              <a:spcBef>
                <a:spcPts val="451"/>
              </a:spcBef>
              <a:buClr>
                <a:srgbClr val="009999"/>
              </a:buClr>
              <a:buFont typeface="Arial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46440" indent="-2048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46440" indent="-2048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258840" y="162000"/>
          <a:ext cx="1133280" cy="514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840" y="162000"/>
                    <a:ext cx="113328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"/>
          <p:cNvSpPr/>
          <p:nvPr/>
        </p:nvSpPr>
        <p:spPr>
          <a:xfrm>
            <a:off x="258840" y="790560"/>
            <a:ext cx="868212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33200" y="6594480"/>
            <a:ext cx="3248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5360" y="1038240"/>
            <a:ext cx="4191120" cy="1467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ECU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te Acceptance Testing contin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0920" y="1017720"/>
            <a:ext cx="4343400" cy="1487520"/>
          </a:xfrm>
          <a:prstGeom prst="roundRect">
            <a:avLst>
              <a:gd name="adj" fmla="val 16667"/>
            </a:avLst>
          </a:prstGeom>
          <a:solidFill>
            <a:srgbClr val="e1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spcBef>
                <a:spcPts val="2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ITIATION TO PLANNING WITH NO CAPITAL BUDGE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YET APPRO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3200" y="789120"/>
            <a:ext cx="247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ject Scope/Deliver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8640" y="3174840"/>
            <a:ext cx="90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45080" y="2583000"/>
            <a:ext cx="15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sues / A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09440" y="4500720"/>
            <a:ext cx="303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Milestones as of 6/30/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75320" y="812880"/>
            <a:ext cx="342720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ecutive Summary of Sta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604960"/>
            <a:ext cx="429588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4540320"/>
            <a:ext cx="429588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914400"/>
            <a:ext cx="0" cy="565632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79600" y="0"/>
            <a:ext cx="23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30183 EMMS 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88960" y="338040"/>
            <a:ext cx="197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M:  Jeffrey Robin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l Mgr: Obad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28680" y="3479760"/>
          <a:ext cx="3922560" cy="3262320"/>
        </p:xfrm>
        <a:graphic>
          <a:graphicData uri="http://schemas.openxmlformats.org/drawingml/2006/table">
            <a:tbl>
              <a:tblPr/>
              <a:tblGrid>
                <a:gridCol w="1566720"/>
                <a:gridCol w="752400"/>
                <a:gridCol w="790560"/>
                <a:gridCol w="81288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cstd. Comple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23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pe Loc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28/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ail Desig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29/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c2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ild and Unit Te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3/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c2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-FA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4/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c2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ory Acceptance Te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11/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c2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ion Migration – EM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15/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c2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e Acceptance Test / Regression Te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4/05 thru 9/9/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c20000"/>
                          </a:solidFill>
                          <a:latin typeface="Arial"/>
                        </a:rPr>
                        <a:t>6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progres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r Acceptance Te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6/05 thru 9/9/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c20000"/>
                          </a:solidFill>
                          <a:latin typeface="Arial"/>
                        </a:rPr>
                        <a:t>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Start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Participant Te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12/05 thru 9/23/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c20000"/>
                          </a:solidFill>
                          <a:latin typeface="Arial"/>
                        </a:rPr>
                        <a:t>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Start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ion Migration - MM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28/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c20000"/>
                          </a:solidFill>
                          <a:latin typeface="Arial"/>
                        </a:rPr>
                        <a:t>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start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3287880" y="338040"/>
            <a:ext cx="197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onsor: Saath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s Lead: Patt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5027760" y="71280"/>
            <a:ext cx="3857400" cy="638280"/>
            <a:chOff x="5027760" y="71280"/>
            <a:chExt cx="3857400" cy="638280"/>
          </a:xfrm>
        </p:grpSpPr>
        <p:sp>
          <p:nvSpPr>
            <p:cNvPr id="59" name=""/>
            <p:cNvSpPr/>
            <p:nvPr/>
          </p:nvSpPr>
          <p:spPr>
            <a:xfrm>
              <a:off x="8335080" y="496800"/>
              <a:ext cx="549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783560" y="496800"/>
              <a:ext cx="5511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233840" y="496800"/>
              <a:ext cx="549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678720" y="496800"/>
              <a:ext cx="5547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129000" y="496800"/>
              <a:ext cx="549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577480" y="496800"/>
              <a:ext cx="5511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27760" y="496800"/>
              <a:ext cx="549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>
                <a:spcBef>
                  <a:spcPts val="176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ast Updat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335080" y="284040"/>
              <a:ext cx="549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783560" y="284040"/>
              <a:ext cx="5511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233840" y="284040"/>
              <a:ext cx="549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678720" y="284040"/>
              <a:ext cx="5547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129000" y="284040"/>
              <a:ext cx="549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577480" y="284040"/>
              <a:ext cx="5511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027760" y="284040"/>
              <a:ext cx="549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>
                <a:spcBef>
                  <a:spcPts val="176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his Updat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335080" y="71280"/>
              <a:ext cx="549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us Align/ Scope Risk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783560" y="71280"/>
              <a:ext cx="5511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echnical Risk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233840" y="71280"/>
              <a:ext cx="549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chedule Risk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678720" y="71280"/>
              <a:ext cx="5547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taffing    Risk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129000" y="71280"/>
              <a:ext cx="549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Financial   Risk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77480" y="71280"/>
              <a:ext cx="5511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veral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577480" y="71280"/>
              <a:ext cx="33073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027760" y="284040"/>
              <a:ext cx="38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27760" y="496800"/>
              <a:ext cx="38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027760" y="709560"/>
              <a:ext cx="38574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027760" y="284040"/>
              <a:ext cx="0" cy="4255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577480" y="71280"/>
              <a:ext cx="0" cy="6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129000" y="71280"/>
              <a:ext cx="0" cy="6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678720" y="71280"/>
              <a:ext cx="0" cy="6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233840" y="71280"/>
              <a:ext cx="0" cy="6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83560" y="71280"/>
              <a:ext cx="0" cy="6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335080" y="71280"/>
              <a:ext cx="0" cy="6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885160" y="71280"/>
              <a:ext cx="0" cy="6382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4570560" y="71280"/>
            <a:ext cx="187200" cy="17784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475400" y="309600"/>
            <a:ext cx="182880" cy="17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80160" y="509760"/>
            <a:ext cx="187200" cy="1774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913440" y="299880"/>
            <a:ext cx="182520" cy="1731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913440" y="509760"/>
            <a:ext cx="182520" cy="1728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275440" y="71280"/>
            <a:ext cx="182520" cy="17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018640" y="299880"/>
            <a:ext cx="182520" cy="1731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018640" y="509760"/>
            <a:ext cx="182520" cy="1728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561520" y="299880"/>
            <a:ext cx="182520" cy="1731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561520" y="500040"/>
            <a:ext cx="182520" cy="1731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2600" y="3081240"/>
            <a:ext cx="4295880" cy="180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648320" y="4746600"/>
          <a:ext cx="4419360" cy="1997280"/>
        </p:xfrm>
        <a:graphic>
          <a:graphicData uri="http://schemas.openxmlformats.org/drawingml/2006/table">
            <a:tbl>
              <a:tblPr/>
              <a:tblGrid>
                <a:gridCol w="504720"/>
                <a:gridCol w="638280"/>
                <a:gridCol w="628560"/>
                <a:gridCol w="638280"/>
                <a:gridCol w="657000"/>
                <a:gridCol w="704880"/>
                <a:gridCol w="64764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 Budg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Forecast / Actu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i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ns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Foreca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itted to Da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ual to Da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4572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VA Lab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W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3443400" y="838080"/>
            <a:ext cx="231840" cy="179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61200" y="792000"/>
            <a:ext cx="75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80160" y="299880"/>
            <a:ext cx="187200" cy="17784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56520" y="509760"/>
            <a:ext cx="187200" cy="1774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480440" y="509760"/>
            <a:ext cx="187200" cy="1774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60920" y="1038240"/>
            <a:ext cx="4343400" cy="1487520"/>
          </a:xfrm>
          <a:prstGeom prst="roundRect">
            <a:avLst>
              <a:gd name="adj" fmla="val 16667"/>
            </a:avLst>
          </a:prstGeom>
          <a:solidFill>
            <a:srgbClr val="e1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spcBef>
                <a:spcPts val="624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0 major deliverables from AREVA (MOS–5, POS-4, PUCT-1) + 7 internal sub projects (4 Billing &amp; Settlements, 3 DA/DW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624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illing &amp; Settlements development underway.  OOM Tool Enhancements planning near comple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624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A/EDW planning complet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624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ingent upon final patch delivery from AREVA on August 4, 2005, the market migration is targeted for September 28, 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48320" y="2835360"/>
            <a:ext cx="4343400" cy="1654200"/>
          </a:xfrm>
          <a:prstGeom prst="roundRect">
            <a:avLst>
              <a:gd name="adj" fmla="val 16667"/>
            </a:avLst>
          </a:prstGeom>
          <a:solidFill>
            <a:srgbClr val="e1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rket Participant T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lient Services will re-establish timelin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351480" y="299880"/>
            <a:ext cx="187560" cy="1778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951440" y="71280"/>
            <a:ext cx="182520" cy="17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eliverabl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85840" y="901800"/>
          <a:ext cx="8620200" cy="4973400"/>
        </p:xfrm>
        <a:graphic>
          <a:graphicData uri="http://schemas.openxmlformats.org/drawingml/2006/table">
            <a:tbl>
              <a:tblPr/>
              <a:tblGrid>
                <a:gridCol w="1245960"/>
                <a:gridCol w="7374240"/>
              </a:tblGrid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sociated PRR 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ject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R2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sociation of BE Bids with RP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R4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timization for the Whole Operating Day in RPRS Procurement Pro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R3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ource Plan Improvement (Phase II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R4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it Specific Bid Limits based on Generic Cos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R342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R4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 Simultaneous Selec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R4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patch of Generation Resources Below Minimum Operating Lev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R4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OM Zonal Dispatch Instruc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hancement to OOM tools for congestion manag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prove Data Elements for Local Constraints &amp; OO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MS Parameters Capture for MMS Reclear Fide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OM Participation in Providing Ancillary Servi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Comple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Special Protection Schemes  [6/15/2005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Complete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Improve Power System Model Maintenance via Database Archive Comparison </a:t>
                      </a: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[6/15/2005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Complete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Improvements to VSAT/TSAT </a:t>
                      </a: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[6/15/2005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ontributing Factors for Delaying Migration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75760" y="961560"/>
            <a:ext cx="8620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7800" indent="-307800"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of AREVA Patches (10 week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57040">
              <a:spcBef>
                <a:spcPts val="400"/>
              </a:spcBef>
              <a:buClr>
                <a:srgbClr val="009999"/>
              </a:buClr>
              <a:buFont typeface="Arial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going issues with OOM related patches from ARE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5640" indent="-204840">
              <a:spcBef>
                <a:spcPts val="349"/>
              </a:spcBef>
              <a:buClr>
                <a:srgbClr val="009999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patches received - April 29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May 24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July 7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25640" indent="-204840">
              <a:spcBef>
                <a:spcPts val="349"/>
              </a:spcBef>
              <a:buClr>
                <a:srgbClr val="009999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al patch delivery expected on August 4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-307800">
              <a:spcBef>
                <a:spcPts val="1349"/>
              </a:spcBef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(June) Changes to Scope (2 week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57040">
              <a:spcBef>
                <a:spcPts val="400"/>
              </a:spcBef>
              <a:buClr>
                <a:srgbClr val="009999"/>
              </a:buClr>
              <a:buFont typeface="Arial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OM (1 wee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57040">
              <a:spcBef>
                <a:spcPts val="400"/>
              </a:spcBef>
              <a:buClr>
                <a:srgbClr val="009999"/>
              </a:buClr>
              <a:buFont typeface="Arial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PRS (1 wee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57040">
              <a:spcBef>
                <a:spcPts val="400"/>
              </a:spcBef>
              <a:buClr>
                <a:srgbClr val="009999"/>
              </a:buClr>
              <a:buFont typeface="Arial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MS (no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7800" indent="-307800">
              <a:spcBef>
                <a:spcPts val="1349"/>
              </a:spcBef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Conflicts (4 week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57040">
              <a:spcBef>
                <a:spcPts val="400"/>
              </a:spcBef>
              <a:buClr>
                <a:srgbClr val="009999"/>
              </a:buClr>
              <a:buFont typeface="Arial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expected level of production support activ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5640" indent="-204840">
              <a:spcBef>
                <a:spcPts val="349"/>
              </a:spcBef>
              <a:buClr>
                <a:srgbClr val="009999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ll not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25640" indent="-204840">
              <a:spcBef>
                <a:spcPts val="349"/>
              </a:spcBef>
              <a:buClr>
                <a:srgbClr val="009999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justment period A/S Market Iss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25640" indent="-204840">
              <a:spcBef>
                <a:spcPts val="349"/>
              </a:spcBef>
              <a:buClr>
                <a:srgbClr val="009999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blems with Non-Spin rec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25640" indent="-204840">
              <a:spcBef>
                <a:spcPts val="349"/>
              </a:spcBef>
              <a:buClr>
                <a:srgbClr val="009999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PRS issues due to addition of new QS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57040">
              <a:spcBef>
                <a:spcPts val="400"/>
              </a:spcBef>
              <a:buClr>
                <a:srgbClr val="009999"/>
              </a:buClr>
              <a:buFont typeface="Arial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hedule slippage resulted in conflicts with planned training and vacation schedul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80880" y="666720"/>
            <a:ext cx="842040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479600" y="0"/>
            <a:ext cx="23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30183 EMMS 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88960" y="338040"/>
            <a:ext cx="197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M:  Jeffrey Robin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l Mgr: Obad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87880" y="338040"/>
            <a:ext cx="197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onsor: Saath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s Lead: Patt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116680" y="338040"/>
            <a:ext cx="197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P Test Lead: C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22440" y="1927080"/>
            <a:ext cx="7435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T 5 – 9:  UPDATE Test Contacts and Test URL/IP addr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T 7 – 9:   Confirm Test URL/IP addr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P “Test” Listener Conne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T 12 – SEPT 23:  Release 4 XML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uctured Notification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structured Testing on M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9200" y="111456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ntative Market Participant Test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479600" y="0"/>
            <a:ext cx="23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30183 EMMS 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88960" y="338040"/>
            <a:ext cx="197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M:  Jeffrey Robin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l Mgr: Obad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87880" y="338040"/>
            <a:ext cx="197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onsor: Saath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s Lead: Patt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116680" y="338040"/>
            <a:ext cx="197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P Test Lead: C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22440" y="1612800"/>
            <a:ext cx="743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tribute Example XML – AUG 25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9200" y="1038240"/>
            <a:ext cx="33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P Test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2440" y="2381400"/>
            <a:ext cx="77691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gent on Rel4 Migration into iTest by Aug 15t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OOM Deploy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RPRS Bid and A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479600" y="0"/>
            <a:ext cx="23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30183 EMMS 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88960" y="338040"/>
            <a:ext cx="197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M:  Jeffrey Robin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l Mgr: Obad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87880" y="338040"/>
            <a:ext cx="197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onsor: Saath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s Lead: Patt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16680" y="338040"/>
            <a:ext cx="197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P Test Lead: C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19200" y="1114560"/>
            <a:ext cx="33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P Test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384280" y="1778040"/>
            <a:ext cx="281952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3T14:28:49Z</dcterms:created>
  <dc:creator>Mitch Seagraves</dc:creator>
  <dc:description/>
  <dc:language>en-US</dc:language>
  <cp:lastModifiedBy>pcoon</cp:lastModifiedBy>
  <cp:lastPrinted>1999-12-01T22:56:09Z</cp:lastPrinted>
  <dcterms:modified xsi:type="dcterms:W3CDTF">2005-07-21T20:24:24Z</dcterms:modified>
  <cp:revision>728</cp:revision>
  <dc:subject/>
  <dc:title>No Slide Title</dc:title>
</cp:coreProperties>
</file>